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77BF-ED46-471F-B8EC-658EF0842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EBC5-B4B1-4721-A14D-DBC7D429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0513-A239-4005-966D-07D47871E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7F8B-4F98-4893-B2A1-48388B95F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CBC9-D946-42D7-9278-A3465D0A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4A45-195C-4987-888C-C1C5A046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431A-E69F-4037-A38A-195DD2E6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223D-7CDB-4202-916D-58118596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EBC3-30AD-4166-8482-37B20EF5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F98F-3963-48EA-AC1C-11764017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A996-F81F-460C-9BDE-0378D36B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FF5A-FAE2-48EE-A2D5-1A45DEF2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1EDE-2FB0-407A-BF8D-339F1119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A54C-74DD-47EA-9F63-B204B705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2C4A-389D-4CA7-ABF7-E0077204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D246-476F-48C6-B4F7-F3E358489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58D4-64DE-459F-A0BB-A5DB00F01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05AE-4FB1-4C76-A54A-974EE3E4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AF72-8D65-4482-A715-82291451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1364-6B98-4B76-9A67-557ADCE9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8FCC-720C-422C-B838-FB7766CC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4C0B-94F3-49F2-9C71-83CC2206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0593-CDFD-4BA1-8257-509AD229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7829-98BE-4D70-B7BD-897836DD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C8D0-7960-45A2-909D-1B79E9DB542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438D-A5D4-407A-9F6D-36306A20BCB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Me llamo ________ Clase 6 NH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La fecha es el 19 de octubre del 2011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Verdana"/>
              </a:rPr>
              <a:t>Proposito # 13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¿Cuales son las posiciones de silaba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Verdana"/>
              </a:rPr>
              <a:t>Actividad Inicial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Divide  y clasifica las siguientes palabras según el número de silaba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Entrada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ES" sz="1800" spc="-1" strike="noStrike">
                <a:solidFill>
                  <a:srgbClr val="0000cc"/>
                </a:solidFill>
                <a:latin typeface="Verdana"/>
              </a:rPr>
              <a:t>6.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 Ho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Clavel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ES" sz="1800" spc="-1" strike="noStrike">
                <a:solidFill>
                  <a:srgbClr val="0000cc"/>
                </a:solidFill>
                <a:latin typeface="Verdana"/>
              </a:rPr>
              <a:t>7.</a:t>
            </a:r>
            <a:r>
              <a:rPr b="0" lang="es-ES" sz="16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 primaver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Familia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ES" sz="1800" spc="-1" strike="noStrike">
                <a:solidFill>
                  <a:srgbClr val="0000cc"/>
                </a:solidFill>
                <a:latin typeface="Verdana"/>
              </a:rPr>
              <a:t>8.  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Monument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Enero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ES" sz="1800" spc="-1" strike="noStrike">
                <a:solidFill>
                  <a:srgbClr val="0000cc"/>
                </a:solidFill>
                <a:latin typeface="Verdana"/>
              </a:rPr>
              <a:t>9.</a:t>
            </a:r>
            <a:r>
              <a:rPr b="1" lang="es-ES" sz="29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Na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Cine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1800" spc="-1" strike="noStrike">
                <a:solidFill>
                  <a:srgbClr val="0000cc"/>
                </a:solidFill>
                <a:latin typeface="Verdana"/>
              </a:rPr>
              <a:t>10.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 D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731376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l acento escrito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8120" y="990360"/>
            <a:ext cx="7313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Todas las palabras con dos o mas silabas, tienen una silaba que se pronuncia con mas énfasis que las otras. Esta es la </a:t>
            </a:r>
            <a:r>
              <a:rPr b="1" lang="es-ES_tradnl" sz="2900" spc="-1" strike="noStrike">
                <a:solidFill>
                  <a:srgbClr val="000000"/>
                </a:solidFill>
                <a:latin typeface="Verdana"/>
              </a:rPr>
              <a:t>silaba tónica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lang="es-ES" sz="2900" spc="-1" strike="noStrike" u="sng">
                <a:solidFill>
                  <a:srgbClr val="000000"/>
                </a:solidFill>
                <a:uFillTx/>
                <a:latin typeface="Verdana"/>
              </a:rPr>
              <a:t>acento 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 es poner la fuerza de la voz en una determinada silaba.  Todas las palabras tienen acento; unos acentos se ven y otros solo se oyen.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14040" y="457200"/>
            <a:ext cx="807732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Hay dos tipos de acentos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acento ortográfico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y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acento auditiv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0000"/>
                </a:solidFill>
                <a:latin typeface="Verdana"/>
              </a:rPr>
              <a:t>1. 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lang="es-ES" sz="2900" spc="-1" strike="noStrike" u="sng">
                <a:solidFill>
                  <a:srgbClr val="000000"/>
                </a:solidFill>
                <a:uFillTx/>
                <a:latin typeface="Verdana"/>
              </a:rPr>
              <a:t>acento ortográfico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 es aquel que se ve y se oye. También es conocido como la TILD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900" spc="-1" strike="noStrike">
                <a:solidFill>
                  <a:srgbClr val="000000"/>
                </a:solidFill>
                <a:latin typeface="Verdana"/>
              </a:rPr>
              <a:t>Por ejempl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s-E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s-ES" sz="2900" spc="-1" strike="noStrike">
                <a:solidFill>
                  <a:srgbClr val="0000cc"/>
                </a:solidFill>
                <a:latin typeface="Verdana"/>
              </a:rPr>
              <a:t>ó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rmula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ES" sz="2900" spc="-1" strike="noStrike">
                <a:solidFill>
                  <a:srgbClr val="0000cc"/>
                </a:solidFill>
                <a:latin typeface="Verdana"/>
              </a:rPr>
              <a:t>Á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rbol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Televisi</a:t>
            </a:r>
            <a:r>
              <a:rPr b="1" lang="es-ES" sz="2900" spc="-1" strike="noStrike">
                <a:solidFill>
                  <a:srgbClr val="0000cc"/>
                </a:solidFill>
                <a:latin typeface="Verdana"/>
              </a:rPr>
              <a:t>ó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0000"/>
                </a:solidFill>
                <a:latin typeface="Verdana"/>
              </a:rPr>
              <a:t>2. 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lang="es-ES" sz="2900" spc="-1" strike="noStrike" u="sng">
                <a:solidFill>
                  <a:srgbClr val="000000"/>
                </a:solidFill>
                <a:uFillTx/>
                <a:latin typeface="Verdana"/>
              </a:rPr>
              <a:t>acento auditivo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 es aquel que solo se oy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900" spc="-1" strike="noStrike">
                <a:solidFill>
                  <a:srgbClr val="000000"/>
                </a:solidFill>
                <a:latin typeface="Verdana"/>
              </a:rPr>
              <a:t>Por ejempl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Borra</a:t>
            </a:r>
            <a:r>
              <a:rPr b="1" lang="es-ES" sz="2900" spc="-1" strike="noStrike">
                <a:solidFill>
                  <a:srgbClr val="0000cc"/>
                </a:solidFill>
                <a:latin typeface="Verdana"/>
              </a:rPr>
              <a:t>dor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s-ES" sz="2900" spc="-1" strike="noStrike">
                <a:solidFill>
                  <a:srgbClr val="0000cc"/>
                </a:solidFill>
                <a:latin typeface="Verdana"/>
              </a:rPr>
              <a:t>Plu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ma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900" spc="-1" strike="noStrike">
                <a:solidFill>
                  <a:srgbClr val="0000cc"/>
                </a:solidFill>
                <a:latin typeface="Verdana"/>
              </a:rPr>
              <a:t>La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z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536040"/>
            <a:ext cx="73134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Mas ejemplos: 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Profesor (</a:t>
            </a:r>
            <a:r>
              <a:rPr b="0" i="1" lang="es-ES" sz="2900" spc="-1" strike="noStrike">
                <a:solidFill>
                  <a:srgbClr val="000000"/>
                </a:solidFill>
                <a:latin typeface="Verdana"/>
              </a:rPr>
              <a:t>auditivo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Primero (</a:t>
            </a:r>
            <a:r>
              <a:rPr b="0" i="1" lang="es-ES" sz="2900" spc="-1" strike="noStrike">
                <a:solidFill>
                  <a:srgbClr val="000000"/>
                </a:solidFill>
                <a:latin typeface="Verdana"/>
              </a:rPr>
              <a:t>auditivo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Semáforo </a:t>
            </a:r>
            <a:r>
              <a:rPr b="0" i="1" lang="es-ES" sz="2900" spc="-1" strike="noStrike">
                <a:solidFill>
                  <a:srgbClr val="000000"/>
                </a:solidFill>
                <a:latin typeface="Verdana"/>
              </a:rPr>
              <a:t>(ortográfico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Nación  </a:t>
            </a:r>
            <a:r>
              <a:rPr b="0" i="1" lang="es-ES" sz="2900" spc="-1" strike="noStrike">
                <a:solidFill>
                  <a:srgbClr val="000000"/>
                </a:solidFill>
                <a:latin typeface="Verdana"/>
              </a:rPr>
              <a:t>(ortográfico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a posicion de silaba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Dentro de una palabra, las silabas ocupan una posición determinad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900" spc="-1" strike="noStrike">
                <a:solidFill>
                  <a:srgbClr val="000000"/>
                </a:solidFill>
                <a:latin typeface="Verdana"/>
              </a:rPr>
              <a:t>Por ejempl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A – MIS – TAD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Al separar la palabra notamos que tiene tres silabas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609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De acuerdo a su Posición las silabas se clasifican  en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  MIS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T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     | 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 |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00"/>
                </a:solidFill>
                <a:latin typeface="Verdana"/>
              </a:rPr>
              <a:t>Antepenúltima    Penúltima</a:t>
            </a:r>
            <a:r>
              <a:rPr b="0" i="1" lang="es-E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s-ES" sz="2500" spc="-1" strike="noStrike">
                <a:solidFill>
                  <a:srgbClr val="000000"/>
                </a:solidFill>
                <a:latin typeface="Verdana"/>
              </a:rPr>
              <a:t>               Últim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(APU)               (PU)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(U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[3rd before last]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[before last]                [last]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ractica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a) Divide, b) clasifica según el número de silabas, c) acento ortográfico o auditivo, d) Clasifica la posición de silaba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Capit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sei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Fósfor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Carpet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Restauració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Limó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20:43:51Z</dcterms:created>
  <dc:creator>Helen Zumaeta</dc:creator>
  <dc:description/>
  <dc:language>en-US</dc:language>
  <cp:lastModifiedBy>Helen Zumaeta</cp:lastModifiedBy>
  <dcterms:modified xsi:type="dcterms:W3CDTF">2011-10-19T16:56:14Z</dcterms:modified>
  <cp:revision>3</cp:revision>
  <dc:subject/>
  <dc:title>Me llamo ________ Clase 6 NH La fecha es el 19 de octubre del 2011</dc:title>
</cp:coreProperties>
</file>